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1.png" ContentType="image/png"/>
  <Override PartName="/ppt/media/image9.png" ContentType="image/png"/>
  <Override PartName="/ppt/media/image12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3.png" ContentType="image/pn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5516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038240" y="685440"/>
            <a:ext cx="47815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8CF6B-E63A-4922-B6B9-ABB4AFDC649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D38E1-FEF9-44A6-B2C0-F051A0FB6D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038240" y="685800"/>
            <a:ext cx="478152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начала выходит понятие - правило, а затем по щелчку два друг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9135F-7773-4968-ADC4-15A5296797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038240" y="685800"/>
            <a:ext cx="478152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ртинка - двое человек между ними какая - нибудь слад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52237-7728-42CD-B37F-D2CE0EEF16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038240" y="685800"/>
            <a:ext cx="478152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провождение мультфильма если можно скач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F8A2-CE5B-410F-864D-31D19B5C7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701064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3873960"/>
            <a:ext cx="701064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6FA4-4374-4D7B-ACF7-F45DD4A7A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82088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387396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387396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123D-CE14-45EB-A3D4-9D18D1952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22572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820880"/>
            <a:ext cx="22572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820880"/>
            <a:ext cx="22572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3873960"/>
            <a:ext cx="22572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3873960"/>
            <a:ext cx="22572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3873960"/>
            <a:ext cx="22572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8216-6135-4109-BD51-883674385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8550B-09DD-4DE2-9D2D-8061A9429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820880"/>
            <a:ext cx="701064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E0A53-6DB9-4303-B8D9-97942979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701064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8F1B4-7624-432F-B7B0-8FC3DCA52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342108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820880"/>
            <a:ext cx="342108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436B9-64AF-4C9A-A990-64699991F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DE3B0-F461-4CB3-B044-3169D3FA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82160"/>
            <a:ext cx="7010640" cy="67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D15D8-3FC4-4AD3-8F20-16501CD5E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820880"/>
            <a:ext cx="342108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387396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ABB6E-AA81-41BD-B0B7-F0CBF84A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820880"/>
            <a:ext cx="701064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8B36-21B4-4C05-949B-DCF69276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342108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82088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387396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E95DE-0594-4BF0-AF29-F474AF5A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82088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3873960"/>
            <a:ext cx="701064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02E39-FFDD-47C4-AE2D-DDFBAE14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701064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3873960"/>
            <a:ext cx="701064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08FCA-6F99-4D60-82DD-07AC69725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82088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387396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387396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D4531-51C1-444C-99CF-F8EEBAA9D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22572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820880"/>
            <a:ext cx="22572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820880"/>
            <a:ext cx="22572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3873960"/>
            <a:ext cx="22572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3873960"/>
            <a:ext cx="22572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3873960"/>
            <a:ext cx="22572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14FAF-F3F1-4EED-BF1F-BAE7231C7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701064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819D-9BC2-4A8D-A094-B1AB3F02C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342108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820880"/>
            <a:ext cx="342108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898F-2A4F-49EE-801B-62D050E6E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8025-ED8D-40CC-8DD1-915A065FD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82160"/>
            <a:ext cx="7010640" cy="67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6112-59F0-4B65-98D4-1E24BCA64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820880"/>
            <a:ext cx="342108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387396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C6DE-5027-41AE-A465-675524DE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342108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82088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387396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44EC-3468-4041-A47A-B01B3D6A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82088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3873960"/>
            <a:ext cx="701064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2EE4-4417-448D-BFB4-1F6E16BE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820880"/>
            <a:ext cx="701064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5970240"/>
            <a:ext cx="190512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5970240"/>
            <a:ext cx="289548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5970240"/>
            <a:ext cx="129564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0053-9BCB-40B1-BD68-B80C09175A9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290520"/>
            <a:ext cx="0" cy="1238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01720"/>
            <a:ext cx="228600" cy="2174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01720"/>
            <a:ext cx="228600" cy="21744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01720"/>
            <a:ext cx="228600" cy="21744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165320"/>
            <a:ext cx="0" cy="19652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009880"/>
            <a:ext cx="347760" cy="3315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011320"/>
            <a:ext cx="349200" cy="33192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011320"/>
            <a:ext cx="347760" cy="33192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820880"/>
            <a:ext cx="701064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5970240"/>
            <a:ext cx="152388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5970240"/>
            <a:ext cx="289584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5970240"/>
            <a:ext cx="121932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1D2F8-0338-4A23-AB79-0E57A1D8AD2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360" y="1116000"/>
            <a:ext cx="705672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300" spc="-1" strike="noStrike">
                <a:solidFill>
                  <a:srgbClr val="800000"/>
                </a:solidFill>
                <a:latin typeface="Stylo"/>
              </a:rPr>
              <a:t>Час нравственности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340000" y="2124000"/>
            <a:ext cx="64771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 u="sng">
                <a:solidFill>
                  <a:srgbClr val="000000"/>
                </a:solidFill>
                <a:uFillTx/>
                <a:latin typeface="Bookman Old Style"/>
              </a:rPr>
              <a:t>Тема</a:t>
            </a:r>
            <a:r>
              <a:rPr b="0" lang="ru-RU" sz="3000" spc="-1" strike="noStrike">
                <a:solidFill>
                  <a:srgbClr val="000000"/>
                </a:solidFill>
                <a:latin typeface="Bookman Old Style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Bookman Old Style"/>
              </a:rPr>
              <a:t>«</a:t>
            </a:r>
            <a:r>
              <a:rPr b="1" lang="ru-RU" sz="3000" spc="-1" strike="noStrike">
                <a:solidFill>
                  <a:srgbClr val="000000"/>
                </a:solidFill>
                <a:latin typeface="Bookman Old Style"/>
              </a:rPr>
              <a:t>Учимся договариваться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Bookman Old Style"/>
              </a:rPr>
              <a:t>и уступать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155614_image_large"/>
          <p:cNvPicPr/>
          <p:nvPr/>
        </p:nvPicPr>
        <p:blipFill>
          <a:blip r:embed="rId2"/>
          <a:stretch/>
        </p:blipFill>
        <p:spPr>
          <a:xfrm>
            <a:off x="4067280" y="3781440"/>
            <a:ext cx="2952720" cy="2619360"/>
          </a:xfrm>
          <a:prstGeom prst="rect">
            <a:avLst/>
          </a:prstGeom>
          <a:ln cap="rnd" w="57240">
            <a:solidFill>
              <a:srgbClr val="800000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cc99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986200" y="36000"/>
            <a:ext cx="5618160" cy="145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Stylo"/>
              </a:rPr>
              <a:t>Круг</a:t>
            </a:r>
            <a:br>
              <a:rPr sz="4000"/>
            </a:br>
            <a:r>
              <a:rPr b="0" lang="ru-RU" sz="4000" spc="-1" strike="noStrike">
                <a:solidFill>
                  <a:srgbClr val="800000"/>
                </a:solidFill>
                <a:latin typeface="Stylo"/>
              </a:rPr>
              <a:t>«От сердца к сердцу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771280" y="1476360"/>
            <a:ext cx="5256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Если друг не смеётся – ты включи ему солнц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Ты включи ему звёзды – это прост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Ты исправь ошибку, превращаем в улыбк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Все грустинки и слёзы – это прост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Воскресенье, суббота: дружба –это не рабо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Есть друзья, а для них у друзей нет выходны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Если свалится счастье – подели его на ч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И раздай всем друзьям – это прост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А когда будет надо, все друзья будут рядом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Чтоб включить тебе солнце и звёз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Если каждый друг по кругу протянет руку другу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То будет видно в иллюминатор дружба – это эквато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Если каждый друг планеты другу ромашкою помаше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То станет ясно дружба – это планета ромаше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3795476"/>
          <p:cNvPicPr/>
          <p:nvPr/>
        </p:nvPicPr>
        <p:blipFill>
          <a:blip r:embed="rId2"/>
          <a:stretch/>
        </p:blipFill>
        <p:spPr>
          <a:xfrm>
            <a:off x="7093080" y="2124000"/>
            <a:ext cx="202068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9280" y="252360"/>
            <a:ext cx="590544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Stylo"/>
              </a:rPr>
              <a:t>Круг радости. Мы - раз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276360" y="830160"/>
            <a:ext cx="439236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На огромном белом све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Очень разные есть де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Тихие и шумны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Скромные и умны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Есть худые, есть толстуш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Молчуны и хохотуш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Кто-то ростом невели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Кто-то сильный учен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У одних – большие уш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У других – кругом веснуш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Кто-то рыж, а кто-то бе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Кто-то в играх неум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Ни над кем нельзя смеять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Никого нельзя дразни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Нужно очень постарать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Словно братьев всех люб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И тогда на белом све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Так чудесно будет ж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Т. Дашкевич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80BA6F60E958[1]"/>
          <p:cNvPicPr/>
          <p:nvPr/>
        </p:nvPicPr>
        <p:blipFill>
          <a:blip r:embed="rId2"/>
          <a:srcRect l="13359" t="0" r="12990" b="0"/>
          <a:stretch/>
        </p:blipFill>
        <p:spPr>
          <a:xfrm>
            <a:off x="7380360" y="1189080"/>
            <a:ext cx="1584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14560" y="326520"/>
            <a:ext cx="6050160" cy="86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Stylo"/>
              </a:rPr>
              <a:t>Разминка «Веревоч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images"/>
          <p:cNvPicPr/>
          <p:nvPr/>
        </p:nvPicPr>
        <p:blipFill>
          <a:blip r:embed="rId2"/>
          <a:stretch/>
        </p:blipFill>
        <p:spPr>
          <a:xfrm>
            <a:off x="2916360" y="1405080"/>
            <a:ext cx="2944800" cy="2130120"/>
          </a:xfrm>
          <a:prstGeom prst="rect">
            <a:avLst/>
          </a:prstGeom>
          <a:ln cap="rnd" w="57240">
            <a:solidFill>
              <a:srgbClr val="800000"/>
            </a:solidFill>
            <a:custDash>
              <a:ds d="100000" sp="1000"/>
            </a:custDash>
            <a:miter/>
          </a:ln>
        </p:spPr>
      </p:pic>
      <p:pic>
        <p:nvPicPr>
          <p:cNvPr id="105" name="Picture 5" descr="161907596f39cfb20c246794a4be9a1c"/>
          <p:cNvPicPr/>
          <p:nvPr/>
        </p:nvPicPr>
        <p:blipFill>
          <a:blip r:embed="rId3"/>
          <a:stretch/>
        </p:blipFill>
        <p:spPr>
          <a:xfrm>
            <a:off x="6156360" y="1620720"/>
            <a:ext cx="2793960" cy="2098800"/>
          </a:xfrm>
          <a:prstGeom prst="rect">
            <a:avLst/>
          </a:prstGeom>
          <a:ln cap="rnd" w="57240">
            <a:solidFill>
              <a:srgbClr val="800000"/>
            </a:solidFill>
            <a:custDash>
              <a:ds d="100000" sp="1000"/>
            </a:custDash>
            <a:miter/>
          </a:ln>
        </p:spPr>
      </p:pic>
      <p:pic>
        <p:nvPicPr>
          <p:cNvPr id="106" name="Picture 6" descr="0_24ebb_4706e677_L"/>
          <p:cNvPicPr/>
          <p:nvPr/>
        </p:nvPicPr>
        <p:blipFill>
          <a:blip r:embed="rId4"/>
          <a:stretch/>
        </p:blipFill>
        <p:spPr>
          <a:xfrm>
            <a:off x="3708360" y="3902040"/>
            <a:ext cx="3533760" cy="2354400"/>
          </a:xfrm>
          <a:prstGeom prst="rect">
            <a:avLst/>
          </a:prstGeom>
          <a:ln cap="rnd" w="57240">
            <a:solidFill>
              <a:srgbClr val="800000"/>
            </a:solidFill>
            <a:custDash>
              <a:ds d="100000" sp="1000"/>
            </a:custDash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987280" y="182520"/>
            <a:ext cx="5257800" cy="95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Stylo"/>
              </a:rPr>
              <a:t>Мы – это я и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4"/>
          <p:cNvSpPr/>
          <p:nvPr/>
        </p:nvSpPr>
        <p:spPr>
          <a:xfrm>
            <a:off x="4356000" y="2933640"/>
            <a:ext cx="2016360" cy="1224000"/>
          </a:xfrm>
          <a:prstGeom prst="verticalScroll">
            <a:avLst>
              <a:gd name="adj" fmla="val 25000"/>
            </a:avLst>
          </a:prstGeom>
          <a:gradFill rotWithShape="0">
            <a:gsLst>
              <a:gs pos="0">
                <a:srgbClr val="4d0808"/>
              </a:gs>
              <a:gs pos="100000">
                <a:srgbClr val="4d0808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Bookman Old Style"/>
              </a:rPr>
              <a:t>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5"/>
          <p:cNvSpPr/>
          <p:nvPr/>
        </p:nvSpPr>
        <p:spPr>
          <a:xfrm>
            <a:off x="2949480" y="1387440"/>
            <a:ext cx="1871640" cy="9144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Я и мой др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1979640" y="3083040"/>
            <a:ext cx="201600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Я и мои роди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9"/>
          <p:cNvSpPr/>
          <p:nvPr/>
        </p:nvSpPr>
        <p:spPr>
          <a:xfrm>
            <a:off x="6689880" y="3094200"/>
            <a:ext cx="2376360" cy="9144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Я и моё живот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1"/>
          <p:cNvSpPr/>
          <p:nvPr/>
        </p:nvSpPr>
        <p:spPr>
          <a:xfrm>
            <a:off x="2914560" y="4716360"/>
            <a:ext cx="2089080" cy="72072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Я и мой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833080" y="4775760"/>
            <a:ext cx="2045880" cy="695160"/>
          </a:xfrm>
          <a:prstGeom prst="rect">
            <a:avLst/>
          </a:prstGeom>
          <a:blipFill rotWithShape="0">
            <a:blip r:embed="rId6"/>
            <a:stretch/>
          </a:blipFill>
          <a:ln w="57240">
            <a:solidFill>
              <a:srgbClr val="800000"/>
            </a:solidFill>
            <a:round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Я и все, кто был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на останов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5"/>
          <p:cNvSpPr/>
          <p:nvPr/>
        </p:nvSpPr>
        <p:spPr>
          <a:xfrm>
            <a:off x="5796000" y="1405080"/>
            <a:ext cx="2087640" cy="91440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stretch/>
          </a:blip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Я и мой брати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AutoShape 25"/>
          <p:cNvCxnSpPr>
            <a:stCxn id="108" idx="0"/>
            <a:endCxn id="109" idx="2"/>
          </p:cNvCxnSpPr>
          <p:nvPr/>
        </p:nvCxnSpPr>
        <p:spPr>
          <a:xfrm flipH="1" flipV="1">
            <a:off x="3885480" y="2329920"/>
            <a:ext cx="1478520" cy="594720"/>
          </a:xfrm>
          <a:prstGeom prst="straightConnector1">
            <a:avLst/>
          </a:prstGeom>
          <a:ln w="38160">
            <a:solidFill>
              <a:srgbClr val="800000"/>
            </a:solidFill>
            <a:miter/>
            <a:tailEnd len="lg" type="stealth" w="med"/>
          </a:ln>
        </p:spPr>
      </p:cxnSp>
      <p:cxnSp>
        <p:nvCxnSpPr>
          <p:cNvPr id="116" name="AutoShape 26"/>
          <p:cNvCxnSpPr>
            <a:stCxn id="108" idx="0"/>
            <a:endCxn id="114" idx="2"/>
          </p:cNvCxnSpPr>
          <p:nvPr/>
        </p:nvCxnSpPr>
        <p:spPr>
          <a:xfrm flipV="1">
            <a:off x="5363640" y="2347200"/>
            <a:ext cx="1477080" cy="577080"/>
          </a:xfrm>
          <a:prstGeom prst="straightConnector1">
            <a:avLst/>
          </a:prstGeom>
          <a:ln w="38160">
            <a:solidFill>
              <a:srgbClr val="800000"/>
            </a:solidFill>
            <a:miter/>
            <a:tailEnd len="lg" type="stealth" w="med"/>
          </a:ln>
        </p:spPr>
      </p:cxnSp>
      <p:cxnSp>
        <p:nvCxnSpPr>
          <p:cNvPr id="117" name="AutoShape 27"/>
          <p:cNvCxnSpPr>
            <a:stCxn id="108" idx="1"/>
            <a:endCxn id="110" idx="3"/>
          </p:cNvCxnSpPr>
          <p:nvPr/>
        </p:nvCxnSpPr>
        <p:spPr>
          <a:xfrm flipH="1" flipV="1">
            <a:off x="4024080" y="3539520"/>
            <a:ext cx="629280" cy="6840"/>
          </a:xfrm>
          <a:prstGeom prst="straightConnector1">
            <a:avLst/>
          </a:prstGeom>
          <a:ln w="38160">
            <a:solidFill>
              <a:srgbClr val="800000"/>
            </a:solidFill>
            <a:miter/>
            <a:tailEnd len="lg" type="stealth" w="med"/>
          </a:ln>
        </p:spPr>
      </p:cxnSp>
      <p:cxnSp>
        <p:nvCxnSpPr>
          <p:cNvPr id="118" name="AutoShape 28"/>
          <p:cNvCxnSpPr>
            <a:stCxn id="108" idx="3"/>
            <a:endCxn id="111" idx="1"/>
          </p:cNvCxnSpPr>
          <p:nvPr/>
        </p:nvCxnSpPr>
        <p:spPr>
          <a:xfrm>
            <a:off x="6075000" y="3546360"/>
            <a:ext cx="586440" cy="5760"/>
          </a:xfrm>
          <a:prstGeom prst="straightConnector1">
            <a:avLst/>
          </a:prstGeom>
          <a:ln w="38160">
            <a:solidFill>
              <a:srgbClr val="800000"/>
            </a:solidFill>
            <a:miter/>
            <a:tailEnd len="lg" type="stealth" w="med"/>
          </a:ln>
        </p:spPr>
      </p:cxnSp>
      <p:cxnSp>
        <p:nvCxnSpPr>
          <p:cNvPr id="119" name="AutoShape 29"/>
          <p:cNvCxnSpPr>
            <a:stCxn id="108" idx="2"/>
            <a:endCxn id="112" idx="0"/>
          </p:cNvCxnSpPr>
          <p:nvPr/>
        </p:nvCxnSpPr>
        <p:spPr>
          <a:xfrm flipH="1">
            <a:off x="3958920" y="4167360"/>
            <a:ext cx="1405440" cy="521280"/>
          </a:xfrm>
          <a:prstGeom prst="straightConnector1">
            <a:avLst/>
          </a:prstGeom>
          <a:ln w="38160">
            <a:solidFill>
              <a:srgbClr val="800000"/>
            </a:solidFill>
            <a:miter/>
            <a:tailEnd len="lg" type="stealth" w="med"/>
          </a:ln>
        </p:spPr>
      </p:cxnSp>
      <p:cxnSp>
        <p:nvCxnSpPr>
          <p:cNvPr id="120" name="AutoShape 30"/>
          <p:cNvCxnSpPr>
            <a:stCxn id="108" idx="2"/>
            <a:endCxn id="113" idx="0"/>
          </p:cNvCxnSpPr>
          <p:nvPr/>
        </p:nvCxnSpPr>
        <p:spPr>
          <a:xfrm>
            <a:off x="5364000" y="4167360"/>
            <a:ext cx="1493280" cy="543600"/>
          </a:xfrm>
          <a:prstGeom prst="straightConnector1">
            <a:avLst/>
          </a:prstGeom>
          <a:ln w="38160">
            <a:solidFill>
              <a:srgbClr val="8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51280" y="180720"/>
            <a:ext cx="4610160" cy="9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Stylo"/>
              </a:rPr>
              <a:t>Нужные поня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987640" y="1405080"/>
            <a:ext cx="5616720" cy="39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Bookman Old Style"/>
              </a:rPr>
              <a:t>Правило</a:t>
            </a:r>
            <a:r>
              <a:rPr b="0" lang="ru-RU" sz="3000" spc="-1" strike="noStrike">
                <a:solidFill>
                  <a:srgbClr val="000000"/>
                </a:solidFill>
                <a:latin typeface="Bookman Old Style"/>
              </a:rPr>
              <a:t>- </a:t>
            </a:r>
            <a:r>
              <a:rPr b="0" lang="ru-RU" sz="1900" spc="-1" strike="noStrike">
                <a:solidFill>
                  <a:srgbClr val="000000"/>
                </a:solidFill>
                <a:latin typeface="Bookman Old Style"/>
              </a:rPr>
              <a:t>постановление, предписание, устанавливающее порядок чего – нибуд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Bookman Old Style"/>
              </a:rPr>
              <a:t>Договор</a:t>
            </a:r>
            <a:r>
              <a:rPr b="0" lang="ru-RU" sz="3000" spc="-1" strike="noStrike">
                <a:solidFill>
                  <a:srgbClr val="000000"/>
                </a:solidFill>
                <a:latin typeface="Bookman Old Style"/>
              </a:rPr>
              <a:t>-</a:t>
            </a:r>
            <a:r>
              <a:rPr b="0" lang="ru-RU" sz="1900" spc="-1" strike="noStrike">
                <a:solidFill>
                  <a:srgbClr val="000000"/>
                </a:solidFill>
                <a:latin typeface="Bookman Old Style"/>
              </a:rPr>
              <a:t> соглашение, обычно письменное, о взаимных обязанностях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Bookman Old Style"/>
              </a:rPr>
              <a:t>Соглашение</a:t>
            </a:r>
            <a:r>
              <a:rPr b="0" lang="ru-RU" sz="3000" spc="-1" strike="noStrike">
                <a:solidFill>
                  <a:srgbClr val="000000"/>
                </a:solidFill>
                <a:latin typeface="Bookman Old Style"/>
              </a:rPr>
              <a:t>-</a:t>
            </a:r>
            <a:r>
              <a:rPr b="0" lang="ru-RU" sz="1900" spc="-1" strike="noStrike">
                <a:solidFill>
                  <a:srgbClr val="000000"/>
                </a:solidFill>
                <a:latin typeface="Bookman Old Style"/>
              </a:rPr>
              <a:t> взаимное согласие, договорённость. Договор, устанавливающий какие – нибудь условия, взаимоотношения, права и обязанности сторон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03280" y="182160"/>
            <a:ext cx="5832360" cy="145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Stylo"/>
              </a:rPr>
              <a:t>Договариваемся в па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634920" y="5148000"/>
            <a:ext cx="4056120" cy="73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Bookman Old Style"/>
              </a:rPr>
              <a:t>«Сладкая проблема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s7_560_05"/>
          <p:cNvPicPr/>
          <p:nvPr/>
        </p:nvPicPr>
        <p:blipFill>
          <a:blip r:embed="rId2"/>
          <a:stretch/>
        </p:blipFill>
        <p:spPr>
          <a:xfrm>
            <a:off x="3492360" y="1692360"/>
            <a:ext cx="39592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916000" y="182160"/>
            <a:ext cx="6227640" cy="145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Stylo"/>
              </a:rPr>
              <a:t>Договариваемся в групп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03280" y="1547640"/>
            <a:ext cx="554652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Bookman Old Style"/>
              </a:rPr>
              <a:t>«Покажи предмет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8028000" y="612720"/>
            <a:ext cx="14367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17"/>
          <p:cNvGrpSpPr/>
          <p:nvPr/>
        </p:nvGrpSpPr>
        <p:grpSpPr>
          <a:xfrm>
            <a:off x="4356000" y="3348000"/>
            <a:ext cx="2376720" cy="2665440"/>
            <a:chOff x="4356000" y="3348000"/>
            <a:chExt cx="2376720" cy="2665440"/>
          </a:xfrm>
        </p:grpSpPr>
        <p:sp>
          <p:nvSpPr>
            <p:cNvPr id="130" name="Oval 4"/>
            <p:cNvSpPr/>
            <p:nvPr/>
          </p:nvSpPr>
          <p:spPr>
            <a:xfrm>
              <a:off x="4356000" y="3348000"/>
              <a:ext cx="2376720" cy="266544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16"/>
            <p:cNvSpPr/>
            <p:nvPr/>
          </p:nvSpPr>
          <p:spPr>
            <a:xfrm>
              <a:off x="5003640" y="4068720"/>
              <a:ext cx="1150920" cy="1152720"/>
            </a:xfrm>
            <a:prstGeom prst="sun">
              <a:avLst>
                <a:gd name="adj" fmla="val 250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AutoShape 6"/>
          <p:cNvSpPr/>
          <p:nvPr/>
        </p:nvSpPr>
        <p:spPr>
          <a:xfrm>
            <a:off x="4788000" y="2124000"/>
            <a:ext cx="1512720" cy="1441440"/>
          </a:xfrm>
          <a:prstGeom prst="smileyFace">
            <a:avLst>
              <a:gd name="adj" fmla="val 9282"/>
            </a:avLst>
          </a:pr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7"/>
          <p:cNvSpPr/>
          <p:nvPr/>
        </p:nvSpPr>
        <p:spPr>
          <a:xfrm>
            <a:off x="3708360" y="3348000"/>
            <a:ext cx="934920" cy="93672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0"/>
          <p:cNvSpPr/>
          <p:nvPr/>
        </p:nvSpPr>
        <p:spPr>
          <a:xfrm>
            <a:off x="6443640" y="3348000"/>
            <a:ext cx="936720" cy="93672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76720" y="468360"/>
            <a:ext cx="4751280" cy="14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Stylo"/>
              </a:rPr>
              <a:t>Договариваемся все вмес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563640" y="2340000"/>
            <a:ext cx="412740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Bookman Old Style"/>
              </a:rPr>
              <a:t>«Счёт на пальцах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f_4c6f93c9be689"/>
          <p:cNvPicPr/>
          <p:nvPr/>
        </p:nvPicPr>
        <p:blipFill>
          <a:blip r:embed="rId2"/>
          <a:srcRect l="14801" t="0" r="16484" b="0"/>
          <a:stretch/>
        </p:blipFill>
        <p:spPr>
          <a:xfrm>
            <a:off x="2771640" y="3162240"/>
            <a:ext cx="6228000" cy="20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987640" y="182160"/>
            <a:ext cx="5905440" cy="145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Stylo"/>
              </a:rPr>
              <a:t>Басня А.М. Крылова</a:t>
            </a:r>
            <a:br>
              <a:rPr sz="4000"/>
            </a:br>
            <a:r>
              <a:rPr b="0" lang="ru-RU" sz="4000" spc="-1" strike="noStrike">
                <a:solidFill>
                  <a:srgbClr val="800000"/>
                </a:solidFill>
                <a:latin typeface="Stylo"/>
              </a:rPr>
              <a:t>«Лебедь, рак и щу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Лебедь рак да щука.wmv" descr=""/>
          <p:cNvPicPr/>
          <p:nvPr/>
        </p:nvPicPr>
        <p:blipFill>
          <a:blip r:embed="rId2"/>
          <a:stretch/>
        </p:blipFill>
        <p:spPr>
          <a:xfrm>
            <a:off x="3203640" y="1584360"/>
            <a:ext cx="5329080" cy="39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57121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56" nodeType="clickEffect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9" dur="1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1:34:48Z</dcterms:created>
  <dc:creator>Svetlana</dc:creator>
  <dc:description/>
  <dc:language>en-US</dc:language>
  <cp:lastModifiedBy>Admin</cp:lastModifiedBy>
  <dcterms:modified xsi:type="dcterms:W3CDTF">2012-12-06T04:16:11Z</dcterms:modified>
  <cp:revision>51</cp:revision>
  <dc:subject/>
  <dc:title>Мы - разные</dc:title>
</cp:coreProperties>
</file>